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3ED-715E-4D53-B842-CE56DED4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31D-8FE9-431E-A254-482B39A5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229-D335-45CA-8327-94F1F9DF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671-9D76-4605-B160-0513721A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8758-7BA3-4BA4-ADEA-0817DBEF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768A-2FAD-42C8-B63D-9BC17F66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B617-2118-4F19-A683-1AA2F2D4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3ED1-D277-49F5-B01C-8E11B632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AF55-D62B-4A66-B10D-EE35435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992E-C40F-4007-9FDF-8885802E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A830-3397-41C3-B08F-8BE8B4C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9D1-6DED-4052-A3AC-CA9B700C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E22F-5D12-41B5-B794-19A5595A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6156-D138-45C5-A16B-959D9FD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3B6A-ECD5-4CC4-9EF0-B3D5EDAA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C0A8-4288-4DE5-95EF-0546053F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8579-138B-43CA-9E97-C8275598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A52-6F4C-4B70-9506-1CFAFA4D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A7A-6A51-47B9-AD59-D6677CA0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992-3ACD-46BE-BFF8-5E5388A8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7E2-7FAF-4C2F-93B0-D0C237DB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E64-0178-4304-BF58-06F579C2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6FE-6398-4776-BE31-1BE201EA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0EE-739A-449D-99CA-5E84EB6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ABB8-887B-48AA-8220-DD350CB161F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AB64-1198-41E1-8800-9F0B7F9A4F9D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Formez</a:t>
            </a:r>
            <a:br>
              <a:rPr sz="2400"/>
            </a:br>
            <a:br>
              <a:rPr sz="2400"/>
            </a:br>
            <a:r>
              <a:rPr b="1" lang="it-I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Il welfare in Italia e le politiche per i minori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rtino Rebon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tania, 22 giugn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Welfare familiare: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Famiglia soggetto e oggetto di welf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li ed esperienze di coniugalità, di paternità, di maternità e di fratellanz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Solidarietà intra-generazionale e inter-generaziona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3ED-B4B9-47B0-836F-0646298AF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Welfare familiare: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Miti e riti dell'identità adolescenzia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Distacco dalla famiglia di origine e formazione di nuove famigl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Violenza e disagio “delle”  e “nelle” famigl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Solitudine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859-87E9-4CE1-9860-DB2E74A4A7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La questione educativa: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’educazione nel tempo e nello spazio di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Gli ideali e i percorsi della cittadinanz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 tempi e i luoghi della scuol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tori (maestri, padri…) cercasi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DE8-FD0D-4C3E-AA08-1ABCEF2A7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Deontologia</a:t>
            </a:r>
            <a:br>
              <a:rPr sz="4000"/>
            </a:b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di un nuovo welfare:</a:t>
            </a: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406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 rischi del riduzionismo tecn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l welfare delle responsabilità: io, tu, noi, qui e o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e responsabilità dei singoli, delle famiglie, delle comunità locali, delle comunità religios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D87-3BFA-4971-A2C2-0B6CDA6E35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Deontologia</a:t>
            </a:r>
            <a:br>
              <a:rPr sz="4000"/>
            </a:b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di un nuovo welfare:</a:t>
            </a: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406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e responsabilità delle organizzazioni a rilevanza sociale ed econom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e responsabilità della </a:t>
            </a:r>
            <a:r>
              <a:rPr b="0" i="1" lang="it-IT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Res Publica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: Enti locali, Regioni, Stato, Unione europe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e responsabilità dei mass medi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E0C-8E8E-40EF-8318-8E91C75EE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Le politiche socio-assistenziali per i minori:</a:t>
            </a: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Un Piano per l'infanzia e l'adolescenz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n testa ai miei pensieri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Un’occasione storica: i livelli essenziali per l'esercizio dei diritti e delle opportunit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2E8-519C-4A37-879E-5CEE7DF165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Le politiche socio-assistenziali per i minori:</a:t>
            </a: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 prospettive di sopravvivenza e di sviluppo per la legge 285/97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Una sfida da raccogliere: la chiusura degli Istitu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bonato - Catania 22-6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136-529E-455C-8D04-F56B98D495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47:09Z</dcterms:created>
  <dc:creator>martino</dc:creator>
  <dc:description/>
  <dc:language>en-US</dc:language>
  <cp:lastModifiedBy>martino</cp:lastModifiedBy>
  <dcterms:modified xsi:type="dcterms:W3CDTF">2004-06-22T08:57:07Z</dcterms:modified>
  <cp:revision>7</cp:revision>
  <dc:subject/>
  <dc:title>Formez  Il welfare in Italia e le politiche per i minori </dc:title>
</cp:coreProperties>
</file>